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EC3-7C04-4870-956D-900C0363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EBB-9331-40B9-B41D-D7932FD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81A-CA46-451D-92D5-AF67420D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FD4-618D-44E8-97C4-91F64AFD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C02-201A-41D1-B2D2-5FF5738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0FE-199A-46D7-B09D-FA6CC68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1F1-5134-482C-B0B0-EA378DD6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C76-77D4-4D9D-9B55-D04C5C0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19F-F924-4A74-A4D6-AFE9FAD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E23-F666-49BC-AA07-C9087743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1BA-CBFC-4C7C-B62F-882E25F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32F-AF14-4DDB-A0AD-464E0CF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E0A-79D3-44B4-A9CE-B4EB1F70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animal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brainstorm countries where they talk Spanish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vise numbers 1-3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numbers 1 to a mill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Play fling the teac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nov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628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3573360"/>
            <a:ext cx="11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692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400536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06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1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5084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21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93080" y="5589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29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40720" y="189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81360"/>
            <a:ext cx="835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 y un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260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068640"/>
            <a:ext cx="828036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500" spc="-1" strike="noStrike">
                <a:solidFill>
                  <a:srgbClr val="000000"/>
                </a:solidFill>
                <a:latin typeface="Arial"/>
              </a:rPr>
              <a:t>doscientos y un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500" spc="-1" strike="noStrike">
                <a:solidFill>
                  <a:srgbClr val="000000"/>
                </a:solidFill>
                <a:latin typeface="Arial"/>
              </a:rPr>
              <a:t>Use “y” up to 17 e.g. dos cientos diecisiet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268280"/>
            <a:ext cx="82803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re do they talk Spanish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81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tr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quin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i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et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nov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l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581360"/>
            <a:ext cx="820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 millo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n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620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28640"/>
            <a:ext cx="15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73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692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4005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060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508464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13372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558972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924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189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ie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o etc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 y d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r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u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07:19Z</dcterms:created>
  <dc:creator>Chris Fuller</dc:creator>
  <dc:description/>
  <dc:language>en-US</dc:language>
  <cp:lastModifiedBy>Owner1</cp:lastModifiedBy>
  <dcterms:modified xsi:type="dcterms:W3CDTF">2008-10-07T15:49:35Z</dcterms:modified>
  <cp:revision>3</cp:revision>
  <dc:subject/>
  <dc:title>Slide 1</dc:title>
</cp:coreProperties>
</file>